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5ED-494E-4D86-91F8-C4BD540C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F5A-A024-4665-9996-D5EBCE0E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F57-0AD8-4FE7-9A3D-B7D597FF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F1E-2895-4D97-94C4-1CE0301A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D93-9A8F-46AE-933D-51C6F237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6CB-C0DF-4562-A58C-6A0592F9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942-12DA-471D-9677-2F0B8A7A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F6E-9993-4140-A1C5-7D063E91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C05-8F01-4311-9826-7F117FCD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D65-8A6F-467A-BE4B-58B3A9A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32E-5AED-4B77-8385-68AA2FDD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55C-ADEC-4A87-8311-F68262C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A184-B780-49C9-A3C9-417B08C299B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LA TRASFORMAZIONE DELLA SCUOLA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594360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6 aprile 2012 Vicenz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371600" y="1676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95280" y="114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371600" y="609480"/>
            <a:ext cx="1600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828800" y="152280"/>
          <a:ext cx="5562720" cy="233856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204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ESP Padov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www.cesp-pd.it</a:t>
                      </a:r>
                      <a:r>
                        <a:rPr b="0" lang="it-IT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	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Tel 0496921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info@cesp-pd.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2222640" cy="164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ettere a profitto l’enorme mercato dell’istruzione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• 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a scuola, al pari di altri settori dello stato sociale (pensioni, sanità, beni   comuni in generale) rappresenta un mercato da colonizzare e portare a profitt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spesa totale per l’educazione ammonta all’ingente somma di 2 miliardi di dollari, cioè a più del doppio del mercato mondiale dell’automobi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•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li analisti del Merryl Lynch ritengono che il settore scolastico oggi presenti caratteristiche simili a quelle del settore sanitario durante gli anni 70: un mercato gigantesco e molto frammentato, una bassa produttività, uno scarso livello tecnologico che non chiede altro che di aumentare, un deficit di direzione professionale e un tasso infimo di capitalizzazione. Tutto questo porta la società del valore alla conclusione che la situazione è matura per una vasta privatizzazione commerciale. Merryl Lynch cita, inoltre, tra i fattori che stimolano la crescita di questo mercato "l“insoddisfazione dei genitori relativamente all'insegnamento pubblico"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Tahoma"/>
              </a:rPr>
              <a:t>Los tres ejes de la mercantilización escolar </a:t>
            </a:r>
            <a:r>
              <a:rPr b="0" i="1" lang="es-ES_tradnl" sz="1800" spc="-1" strike="noStrike">
                <a:solidFill>
                  <a:srgbClr val="ffffff"/>
                </a:solidFill>
                <a:latin typeface="Tahoma"/>
              </a:rPr>
              <a:t>  di Nico Hirtt 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just">
              <a:lnSpc>
                <a:spcPct val="80000"/>
              </a:lnSpc>
              <a:spcBef>
                <a:spcPts val="2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2. Modificare la funzione sociale della scuola alla luce delle trasformazioni economich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lla fine degli anni ’80 inizia un nuovo ciclo produttivo le cui caratteristiche principali son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concorrenza su scala planeta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competitività legata alla capacità di innovazione costante dei prodotti ad una velocità mai conosciu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conseguente riconversione aziendale costante e velo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ecessità di una manodopera che si adatti a questi cambiamenti entrando  e uscendo dal mercato del lavoro e riconvertendo continuamente le proprie competenz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la scuola deve dunque formare questo tipo di manodopera flessibile, precaria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ce di riadattarsi continuamente a contesti diver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7543800" y="6172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’amministrazione della scuo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[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è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dominata dalle esigenze burocratiche. Le pratiche amministrative sono troppo rigide per permettere ai centri d’insegnamento di adattarsi ai cambiamenti richiesti dal rapido sviluppo delle moderne tecnologie e delle ristrutturazioni industriali e terziari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[ERT, 1989]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Occorre dunque «un rinnovamento accelerato dei sistemi d’insegnamento e dei loro programmi(ERT,1989)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990720"/>
            <a:ext cx="18441720" cy="39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La responsabilità della formazione deve, in definitiva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essere assunta dall’industria.  Sembra che nel mondo della scuo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on si percepisca chiaramente quale sia il profilo dei collaboratori di cu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l’industria ha bisogno. </a:t>
            </a:r>
            <a:r>
              <a:rPr b="1" lang="it-IT" sz="1800" spc="-1" strike="noStrike" u="sng">
                <a:solidFill>
                  <a:srgbClr val="ffffff"/>
                </a:solidFill>
                <a:uFillTx/>
                <a:latin typeface="Tahoma"/>
              </a:rPr>
              <a:t>L’istruzione deve essere considerat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Tahoma"/>
              </a:rPr>
              <a:t>come un servizio reso al mondo economico.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I governi nazionali dovrebbero vedere l’istruzione  come un proces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esteso dalla culla fino alla tomba. Istruzione significa apprender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on ricevere un insegnament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[ERT, 1995]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on abbiamo tempo da perdere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[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]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i appelliamo ai governi perché diano all’educazione un’alta priorità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erché invitino l’industria al tavolo di discussione sulle materie educative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e perché rivoluzionino i metodi d’insegnamento con la tecnolog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[ERT, 1997]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’ solo a questo punto ch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rvengono i poteri “pubblici”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ll’Unione Europe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RT CHIAMA …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UROPA RISPON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4419720" y="1523880"/>
            <a:ext cx="4343400" cy="2210040"/>
          </a:xfrm>
          <a:custGeom>
            <a:avLst/>
            <a:gdLst>
              <a:gd name="textAreaLeft" fmla="*/ 581760 w 4343400"/>
              <a:gd name="textAreaRight" fmla="*/ 3761640 w 4343400"/>
              <a:gd name="textAreaTop" fmla="*/ 386640 h 2210040"/>
              <a:gd name="textAreaBottom" fmla="*/ 160236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e5ffff"/>
                </a:solidFill>
                <a:latin typeface="Tahoma"/>
              </a:rPr>
              <a:t>Gli atti dell’Unione Europea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La pressione sui sistemi educativi degli stati membr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 TAPPE PRINCIPA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’articolo 126 del Trattato di Maastricht (1992) accorda per la prima volta alla Commissione europea competenze in materia di insegnamen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 tal fine viene creata la Direzione generale dell’Educazione, della Formazione e della Gioventù, diretta dalla socialista francese Edith Cresson. Si tratta di una sorta di «Ministero europeo dell’Educazione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’EUROPA COMINCIA A LAVORARE sulla scuola &gt;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I documenti principali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Insegnare e apprendere, verso la società cognitiva, Libro bianco sull’istruzion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.  Bruxelles, Commissione delle Comunità Europee (1995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ortare a compimento l’Europa  tramite l’Istruzione e la Formazion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, rapporto del Gruppo di Riflessione sull’istruzione e la formazione, Riassunto e raccomandazioni, Commissione Europea (1996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Apprendere nella società dell’informazione, Piano d’azione per un’iniziativa europea nell’istruzion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1996-1998, Bruxelles, Commissione delle Comuinità Europee (1996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er un’Europa della conoscenz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, Comunicazione della Commissione Europea Commissione Europea (1997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Memorandum sull’istruzione e la formazione nell’arco di tutta la vit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, SEC(2000) 1832. Bruxelles, Commissione delle Comunità Europee (2000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Gli obiettivi concreti futuri dei sistemi di istruzion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, Rapporto della Commissione  Europea (2001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’ALLINEAMENTO IDEOLOGICO</a:t>
            </a:r>
            <a:br>
              <a:rPr sz="40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RACCOMANDAZIONE DEL PARLAMENTO EUROPEO E DEL CONSIGLIO</a:t>
            </a:r>
            <a:br>
              <a:rPr sz="16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relativa a competenze chiave per l'apprendimento permanente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Contesto ed obietti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ato che la globalizzazione continua a porre l'Unione europea di fronte a nuove sfide, ciascun cittadino dovrà disporre di un'ampia gamma di competenze chiave per adattarsi in modo flessibile a un mondo in rapido mutamento e caratterizzato da forte interconnessione. L'istruzione nel suo duplice ruolo — sociale ed economico — è un elemento determinante per assicurare che i cittadini europei acquisiscano le competenze chiave necessarie per adattarsi con flessibilità a siffatti cambiament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600200"/>
            <a:ext cx="14968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funzione istituzionale della scuola – di qualunque scuola – è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chematicamente, triplice e cioè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trasferimento alle nuove generazioni del siste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i valori sociali vigenti, degli strumenti operativ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lle conoscenze acquisite dai nostri progenitor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2) sviluppo delle capacità razionali dei giovan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3) educazione razionale o iniziazione alla vita socia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(da perseguire con altri enti come famiglia, società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mass media ecc.)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CORSO DEGLI ANNI NOVANTA 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CUOLA TENDE AD ASSUMERE  SEMPRE PIU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ENTRALITA’ NELLE POLITICHE GENERA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ELLA COMUNITA’ EUROP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Conclusioni Della Presidenza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CONSIGLIO EUROPEO DI LISBONA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23 E 24 MARZO 2000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'Unione si è ora prefissata </a:t>
            </a:r>
            <a:r>
              <a:rPr b="1" i="1" lang="it-IT" sz="3200" spc="-1" strike="noStrike">
                <a:solidFill>
                  <a:srgbClr val="ffffff"/>
                </a:solidFill>
                <a:latin typeface="Tahoma"/>
              </a:rPr>
              <a:t>un nuovo obiettivo strategico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 il nuovo decennio: </a:t>
            </a: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diventare l'economia basata sulla conoscenza più competitiva e dinamica del mondo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it-IT" sz="2000" spc="-1" strike="noStrike">
                <a:solidFill>
                  <a:srgbClr val="e5ffff"/>
                </a:solidFill>
                <a:latin typeface="Tahoma"/>
              </a:rPr>
              <a:t>CONSIGLIO</a:t>
            </a:r>
            <a:br>
              <a:rPr sz="2000"/>
            </a:br>
            <a:r>
              <a:rPr b="1" lang="it-IT" sz="2000" spc="-1" strike="noStrike">
                <a:solidFill>
                  <a:srgbClr val="e5ffff"/>
                </a:solidFill>
                <a:latin typeface="Tahoma"/>
              </a:rPr>
              <a:t>Programma di lavoro dettagliato sul follow-up circa gli obiettivi dei sistemi di istruzione e</a:t>
            </a:r>
            <a:br>
              <a:rPr sz="2000"/>
            </a:br>
            <a:r>
              <a:rPr b="1" lang="it-IT" sz="2000" spc="-1" strike="noStrike">
                <a:solidFill>
                  <a:srgbClr val="e5ffff"/>
                </a:solidFill>
                <a:latin typeface="Tahoma"/>
              </a:rPr>
              <a:t>formazione in Europa</a:t>
            </a:r>
            <a:br>
              <a:rPr sz="4000"/>
            </a:br>
            <a:r>
              <a:rPr b="0" lang="it-IT" sz="2000" spc="-1" strike="noStrike">
                <a:solidFill>
                  <a:srgbClr val="e5ffff"/>
                </a:solidFill>
                <a:latin typeface="Tahoma"/>
              </a:rPr>
              <a:t>(2002)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l Consiglio e la Commissione chiedono che il settore dell’istruzione e della formazione sia ora esplicit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riconosciuto come sfera prioritaria fondamentale della strategia di Lisbona. Si farebbe così passare un messaggio chiaro, ossia che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Tahoma"/>
              </a:rPr>
              <a:t>per quanto le politiche in altri settori possano essere efficaci, l’Unione europea potrà divenire la principale economia della conoscenza al mondo soltanto grazie al contributo essenziale dell’istruzione e della formazion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come fattori di crescita economica, occupabilità sostenibile e coesione socia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1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L’impresa deve entrare nella scuola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ome deve essere trasformata la scuol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Lo strumento strategico: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l’ autonomia scolastica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UTONOMIA DELLE SCUO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Occorre conferire maggiore autonomia agli istituti di base. L’esperienza mostra che i sistemi più decentrati sono anche quelli più flessibili, che si adattano più rapidamente e che permettono di elaborare nuove forme di partenariato con obiettivi social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. (Libro bianco della Commissione Europea "Insegnare e Apprendere - verso la società conoscitiva“ 199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 governi devono attribuire alle scuole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'autonomia organizzativa, didattica e gestionale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. Le scuo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[…]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dovrebbero poter scegliere il personale insegnante e instaurare stretti rapporti con genitori, comunità locale, altre scuole e mondo del lavo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. (</a:t>
            </a:r>
            <a:r>
              <a:rPr b="1" i="1" lang="it-IT" sz="2000" spc="-1" strike="noStrike">
                <a:solidFill>
                  <a:srgbClr val="ffffff"/>
                </a:solidFill>
                <a:latin typeface="Tahoma"/>
              </a:rPr>
              <a:t>PER UNA SCUOLA DI QUALITA'  Il punto di vista degli imprenditori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febbraio 200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ITALIA</a:t>
            </a:r>
            <a:br>
              <a:rPr sz="44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al 1946 il Ministero della Pubblica Istruzione era stato in mano alla Democrazia Cristiana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nistro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al 1996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 20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286000" cy="294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Come deve essere trasformata la scuola</a:t>
            </a:r>
            <a:br>
              <a:rPr sz="4000"/>
            </a:br>
            <a:r>
              <a:rPr b="0" lang="it-IT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MAZIONE PERMANEN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RENDERE AD APPREND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534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me industriali e membri dell’ERT crediamo sia necessario che ciascuno assuma una nuova visione d’insieme dei processi educativi. Proponiamo il concetto di Catena educativa: la necessità di connettere tutti i gradi dell’istruzione, dall’asilo nido alla formazione degli adulti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[…]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Un processo di apprendimento continuo - formazione permanente che deve iniziare insegnando ai bambini a “imparare come si impara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”. (ERT, 198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Nell'attività lavorativa, la complessità dell’organizzazione del lavoro, l’aumento dei compiti che i dipendenti devono svolgere, l’introduzione di schemi di lavoro flessibili e di metodi di lavoro a squadre significano che la gamma delle competenze utilizzate sul posto di lavoro viene ampliata costantement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[…]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La più importante di queste competenze è la capacità di apprendiment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».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(UE, 14 febbraio 200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Come deve essere trasformata la scuola</a:t>
            </a:r>
            <a:br>
              <a:rPr sz="4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 STRUMENTO DIDATTICO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CENTRALITA’ DELLE TI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ecnologie dell'informazione e della comunicazion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odificare la funzione sociale della scuola alla luce delle trasformazioni economic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lla fine degli anni ’80 inizia un nuovo ciclo produttivo le cui caratteristiche principali son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concorrenza su scala plane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competitività legata alla capacità di innovazione costante dei prodotti ad una velocità mai conosciu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conseguente riconversione aziendale costante e velo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necessità di una manodopera che si adatti a questi cambiamenti entrando  e uscendo dal mercato del lavoro e riconvertendo continuamente le proprie competen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a scuola deve dunque formare questo tipo di manodopera flessibile, precaria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pace di riadattarsi continuamente a contesti diver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«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E’ giunto il tempo di trasformare le aule scolastiche con gli stessi benefici della tecnologia e della gestione tecnica che hanno rivoluzionato ogni luogo di lavoro nell’industria e nel mondo degli affari. L’intera funzione dell’insegnamento può essere resa più semplice dall’introduzione massiccia di multimedia e computer facilmente accessibili per ogni alliev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(ERT, 199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e tecnologie dell’informazion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[…]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rano un ravvicinamento fra i "modi di apprendimento" e i "modi di produzione". Le situazioni di lavoro e le situazioni di apprendimento tendono a un reciproco ravvicinamento se non ad un’identificazione sotto il profilo delle capacità poste in atto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[…]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a Commissione ha particolarmente insistito sulla necessità di incoraggiare la produzione europea di programmi informatici educativi. La società dell’informazione modificherà i modi d’insegnamento sostituendo al rapporto troppo passivo dell’insegnante e dell’allievo il nuovo rapporto, a priori fecondo, dell’interattivit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»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Libro bianco su istruzione e formazione - Commissione Europea 1996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’apprendimento permanente si realizzerà soprattutto con l’insegnamento e-learning (il principale mezzo di formazione utilizzato dalle azien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Tutti i paesi europei, nonostante le ristrettezze imposte dai bilanci, trovano i fondi per dotare le scuole di apparecchiature multimediali (in Italia 16.000 LIM - Lavagne Interattive Multimediali nella scuola secondaria di I grado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’industria del softwer didattico ha fatturati altissimi: dai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108,4 milioni di Euro del 2002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ai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256,3 del 2003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+ 136% (</a:t>
            </a: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Fonte: ASSINFORM)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; secondo Il Sole 24 ore dal 2003 al 2007 il tasso di affari aumenta del 40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Un grande mercato europeo con enormi potenzialità di sviluppo (già ben prsenti in USA) è quello del commercio elettronico: nel 2004 680 miliardi di Euro, nel 2008 2217 miliardi di euro (+ 300%) (</a:t>
            </a: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Fonte: European Information Technology Observatory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Era questa una delle principali richieste dell’ERT che aveva anche prodotto un rapporto specifico sulla questione: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nvestire in conoscenza – L’integrazione della tecnologia nella scuola europea  (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Febbraio 199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Come deve essere trasformata la scuola</a:t>
            </a:r>
            <a:br>
              <a:rPr sz="4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LLE CONOSCENZE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LLE COMPETENZ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Noi crediamo che il prodotto della catena educativa deve essere un individuo a tutto tondo che abbia una conoscenza e delle competenze base  più ampie che approfondite, allenato a imparare a imparare e motivato a imparare sempre di pi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. (ERT, 199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«[Esiste] l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 necessità di spostare la priorità dalla 'conoscenza‘ alla 'competenza' e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Tahoma"/>
              </a:rPr>
              <a:t>dall'insegnamento     all'apprendimen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»  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mmissione Europea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Numerosi mutamenti sociali, culturali, economici e tecnologici nell'ambito della società comportano per gli insegnanti la necessità di rispondere a nuove esigenze e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Tahoma"/>
              </a:rPr>
              <a:t>rendono urgente la necessità di sviluppare approcci all'insegnamento maggiormente incentrati sulle competenze, ponendo ancor più l'accento sui risultati dell'apprendiment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»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Tahoma"/>
              </a:rPr>
              <a:t>. (</a:t>
            </a:r>
            <a:r>
              <a:rPr b="0" i="1" lang="it-IT" sz="2400" spc="-1" strike="noStrike" u="sng">
                <a:solidFill>
                  <a:srgbClr val="ffffff"/>
                </a:solidFill>
                <a:uFillTx/>
                <a:latin typeface="Tahoma"/>
              </a:rPr>
              <a:t>UE, Sul miglioramento della qualità della formazione degli insegnanti, ottobre 2007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Memorandum sull’istruzione e la formazione permanent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Bruxelles, 30.10.2000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’ inoltre opportuno rivedere periodicamente i livelli di riferimento delle competenze di base affinché l’offerta pedagogica possa corrispondere ai bisogni economici e social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RACCOMANDAZIONE DEL PARLAMENTO EUROPEO E DEL CONSIGLIO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del 18 dicembre 2006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comunicazione nella madrelingu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comunicazione nelle lingue stranier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competenza matematica e competenze di base in scienza e tecnolog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) competenza digital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) imparare a imparar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) competenze sociali e civich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) spirito di iniziativa e imprenditorialità; 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) consapevolezza ed espressione cultura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Come deve essere trasformata la scuola</a:t>
            </a:r>
            <a:br>
              <a:rPr sz="4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ALUTAZIONE DI SISTEMA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ALUTAZIONE OGGETTIVA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GLI APPRENDIMENT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68580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Ulteriori miglioramenti-progressi nel campo della formazion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[…]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sono possibili attraverso il monitoraggio e il controllo di qualità della formazi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[…]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. La pratica del benchmarking dovrebbe essere introdotta per identificare i punti deboli e i punti di forza dei sistemi educativ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».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(ERT, 199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Benchmarking = "Un processo continuo di misurazione di prodotti, servizi e prassi aziendali mediante il confronto con i concorrenti più forti; è un'efficace metodologia per misurare e incrementare le performance di un’impresa o di una Pubblica Amministrazione 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PER UNA SCUOLA DI QUALITA' </a:t>
            </a:r>
            <a:br>
              <a:rPr sz="2400"/>
            </a:b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Il punto di vista degli imprenditori</a:t>
            </a:r>
            <a:br>
              <a:rPr sz="40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Presentato ai Ministri dell'Educazione e del Lavoro dei paesi dell'OCSE, Londra, 8 febbraio 2000. 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 govern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[…]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vono definire </a:t>
            </a: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standard nazionali di conoscenze e competenz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ahoma"/>
              </a:rPr>
              <a:t>per ogni materia curriculare come strumenti per poter misurare i risultat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consentire alle scuole l'autovalutazione e il loro continuo miglioramento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[…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 governi devono istituire un </a:t>
            </a: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ente indipendente per la valutazione della qualità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  ogni singola scuola e del sistema nel suo compless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PROPOSTA APRE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rt. 14, c. 1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cente ordin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cente esper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cente sen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rt. 14, c.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retribuzione iniziale di ciascun livello professionale di cui al comma 1 è fissata dalla contrattazione collettiva, ma non può essere inferiore a quella iniziale del livello immediatamente precedente, maggiorata del 30%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QUANDO NASCE UNA POLITICA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MUNE EUROPEA IN MATERIA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   ISTRUZIONE?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895480" cy="2162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95280" y="380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. 14 c.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Sono soggetti a una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Tahoma"/>
              </a:rPr>
              <a:t>valutazione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periodica in ordine 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’efficacia dell’azione didattica e formativa; (</a:t>
            </a: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le prove oggettiv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’impegno professionale nella progettazione e nell’attuazione del piano dell’offerta formativa; (</a:t>
            </a: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la mission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l contributo fornito all’attività complessiva dell’istituzione scolastica formativ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 titoli professionali acquisiti in servizio (</a:t>
            </a:r>
            <a:r>
              <a:rPr b="0" i="1" lang="it-IT" sz="2000" spc="-1" strike="noStrike">
                <a:solidFill>
                  <a:srgbClr val="ffffff"/>
                </a:solidFill>
                <a:latin typeface="Tahoma"/>
              </a:rPr>
              <a:t>il mercato dei corsi a pagament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 docenti  ordinari non possono svolgere “attività complesse” finanziate con il fondo d’istit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Cosa devono diventare i docenti </a:t>
            </a: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(Memorandum sull’istruzione e la formazione permanente 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Bruxelles, 30.10.2000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l profilo professionale del docente cambierà sostanzialmente nei prossimi decenni: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segnanti e formatori diventeranno consulenti, tutori e mediatori.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l loro ruolo – un ruolo d’importanza cruciale – consisterà nell’assistere gli allievi che, per quanto possibile, dovranno farsi carico della propria formazione. La capacità di definire e di mettere in pratica metodi aperti e partecipativi d’insegnamento e di apprendimento dovrà essere una delle competenze professionali di base di insegnanti e formatori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[…]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Il ruolo insostituibile dell’insegnante consiste nell’istruire questa capacità dell’essere umano di creare e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Tahoma"/>
              </a:rPr>
              <a:t>utilizzare il sape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1080" y="1143000"/>
            <a:ext cx="8183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"Una confortevole, levigata, ragionevole, democratica non libert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revale nella civiltà industriale avanzata, segno di progresso tecnico"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on questa frase significativa inizia L’Uomo a una dimensione [1967]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di Herbert Marc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Nei paesi supersviluppati, una parte sempre piú larga della popolazion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diventa un immenso uditorio di prigionieri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atturati non da un regime totalitari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ma dalle libertà dei concittadini i cui media di divertimento e di elevazion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ostringono l’Altro a condividere ciò che essi sentono, vedono e odorano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1600200"/>
            <a:ext cx="25198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(Incipit di Descolarizzare la società 1971 di Ivan Illic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« Molti studenti, specie se poveri, sanno per istinto che cosa fa per loro la scuola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gli insegna a confondere processo e sostanz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Una volta confusi questi due momenti, acquista validità una nuova logica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quanto maggiore è l'applicazione, tanto migliori sono i risultati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in altre parole, l' escalation porta al success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In questo modo si «scolarizza» l'allievo a confondere insegnamento e apprendimento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romozione e istruzione, diploma e competenza, facilità di parola 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apacità di dire qualcosa di nuov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Si «scolarizza» la sua immaginazione ad accettare il servizio al posto del valore. 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« La scuola è l'agenzia pubblicitaria che ti fa cred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di avere bisogno della società così com'è. 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1066680"/>
            <a:ext cx="28381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a vera istruzione è insegnare alla gente a pensare da sola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è una faccenda complicata che richiede la capacità di catturare l'attenzione 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'interesse degli studenti per far sì che questi vogliano pensare, imparare ed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esplorare nuovi camp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………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'intero percorso scolastico, dall'asilo ai corsi post-laurea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sarà consentito solo fino a quando continuerà a svolgere il suo ruolo istituziona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Non voglio dire che la scuola non svolga alcuna funzione utile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he sia solo una fucina di forza lavoro per il sistema delle impre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…………………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Ma il suo principale ruolo istituzionale, che è poi il motivo per cui viene finanziata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è di fornire un servizio ideologico, promuovendo l'obbedienza e il conformism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Questo processo comincia all'asil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Dal libro "Capire Il Potere" - Noam Chomsky - 20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6720" y="838080"/>
            <a:ext cx="9044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a scuola deve tendere tutto nell’attesa di quel giorno glori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in cui lo scolaro migliore le dice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‹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overa vecchia scuola, non ti intendi più di nulla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e la scuola risponde con la rinuncia a conoscere i segreti del suo figliolo felice sol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he il suo figliolo sia vivo e ribel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ettere di don Lorenzo Milani priore di Barbia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rima dell’entrata in vigore del trattato di Maastricht (1992), l’Unione europea non si occupava affatto di educazio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e origini di una politica comune in Europa non si collocano all’interno degli organi istituzionali europei (Parlamento Europeo, Commissioni Europee, 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data di nascita va ricercata all’interno dei documenti di un’organizzazione denominata   “ER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 COSA È L’E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RT  =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European Round Table of Industrialists -T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vola Rotonda degli Industriali Europ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iunisce una quarantina tra i più potenti dirigenti industriali europei (Nokia, Suez- Lyonnaise des Eaux,Renault,Saint-Gobain, Petrofina, Nestlé, British Airways, ThyssenKrupp, TOTAL, Royal Philips Electronics, Solvay, Deutsche Telekom, ecc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’Italia è attualmente presente con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ranco Bernabè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 (Telecom Italia),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odolfo De Benedet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 (CIR),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John Elkan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  (Fiat),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aolo Scar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 - Eni,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arlo Bozzot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STMicroelectronic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ttuale president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Jorma Ollil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 - Nok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7086600" y="4800600"/>
            <a:ext cx="95256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SA FA L’ERT</a:t>
            </a:r>
            <a:br>
              <a:rPr sz="44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(dal sito di ERT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RT nasce a Parigi nell’aprile del 1983 dalla preoccupazione riguardo allo stato dell’economia europea, alla sua mancanza di dinamismo, innovazione e competitività rispetto al Giappone e agli Stati Uni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»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RT ha per prima affermato la necessità di una visione continentale nel campo delle 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infrastrutture dei traspor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ha elaborato argomentazioni a favore della 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riforma delle pensio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della 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liberalizzazione dei servizi pubblic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 della 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flessibilità del mercato del lavor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ha svolto campagne per l’alta 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qualità dell’educazione e della formazio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»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6629400" y="63244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095880" y="63244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5943600" y="62485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5638680" y="6172200"/>
            <a:ext cx="976320" cy="333360"/>
          </a:xfrm>
          <a:custGeom>
            <a:avLst/>
            <a:gdLst>
              <a:gd name="textAreaLeft" fmla="*/ 122040 w 976320"/>
              <a:gd name="textAreaRight" fmla="*/ 854280 w 97632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6781680" y="6477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6553080" y="60958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6934320" y="66294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…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unque 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ERT è una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otentissima lobby economica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che “suggerisce” al Parlamento europeo linee guida su questioni essenzial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OPERA p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•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a privatizzazione di vitali settori pubbli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le controriforme dei sistemi pensionisti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la deregolamentazione del mercato del lavo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•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la trasformazione dei sistemi di istruzione pub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In definitiva ERT è la lobby che sta dietro l’Europa di Mastric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4495680" y="1066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e5ffff"/>
                </a:solidFill>
                <a:latin typeface="Tahoma"/>
              </a:rPr>
              <a:t>ERT E I SISTEMI EDUCATIV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Nel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1987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ERT crea un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Gruppo di lavoro sull’educazion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che resterà attivo fino al 1999 presieduto da vari manager quali  Kari Kairamo (Nokia) o Fra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çois Cornélis (Petrofin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Il gruppo di lavoro produce una serie di rapporti, tra i quali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Educazione e competenza in Europa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(Gennaio 1989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L’istruzione per gli europei. Verso la società della conoscenz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Marzo 1995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Investire in conoscenza – L’integrazione della tecnologia nella scuola         europea  (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Febbraio 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  <a:ea typeface="Tahoma"/>
              </a:rPr>
              <a:t>Interviene anche la Confindustria Europea con un rapporto intitolato 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er una scuola di qualita‘-  il punto di vista degli imprenditori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(presentato a Londra, 8 febbraio 2000)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serena</dc:creator>
  <dc:description/>
  <dc:language>en-US</dc:language>
  <cp:lastModifiedBy>zzazz aasssee</cp:lastModifiedBy>
  <cp:lastPrinted>2009-04-22T19:24:48Z</cp:lastPrinted>
  <dcterms:modified xsi:type="dcterms:W3CDTF">2012-04-15T20:53:00Z</dcterms:modified>
  <cp:revision>1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